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B3E43-5414-458C-9954-F86E583027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75E0D-A22F-415E-BE79-C33A9DAED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9813F-B882-48D3-887F-A7E3E6923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8017-B0E9-417C-BD2C-29E12FBF5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4AED-0C49-40B9-93CF-37C5959A1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F948-822F-4E7D-80CA-A59434DEE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BAF2-7596-40D8-91E1-D352084D7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C932-5304-465B-B990-74FB76D7C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F0F5-85E6-4A9D-B61F-7137C34498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74B5-BD0D-44B7-A7E3-1D17D92D04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D378-32BD-4CBC-A92F-F9268020C9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C1FB-A00E-421B-B0A5-64F631CC7E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D2E5-232F-4913-8F7A-5C867FD2C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6174-3583-456B-9FCB-0354B451E4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3A4C-74D4-426C-A379-E271155F02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882A-C719-4C8F-8A56-2C4F0A36B1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DFEE-0D27-4EB8-9EF1-4A848AE41C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50AA-EBB2-4036-8B45-CC3D46A258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94EF-5CD1-421C-B45E-296992810B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0A6A-338B-412F-AA51-730C6E2AE5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BAAA-0B10-4703-907F-FB6DD6CF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059B-2103-47EF-8630-ABE1834F4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ECAE-C40D-4D99-86AF-AA31D15C2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5DAF-8F5C-4D91-888B-28C187623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6675-BCFB-4DCC-A3EA-15EE06051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90E2-C10B-4032-8B71-2C18DF9A7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860A-7DE4-45FD-B1B4-B177B8841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45520" y="6151320"/>
            <a:ext cx="341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94624-F94B-42A8-B967-FC4B6CB5C33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8372160" y="6151320"/>
            <a:ext cx="314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CAC69-617F-4DC4-B47D-C9E8E850CD64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710e0e"/>
                </a:solidFill>
                <a:latin typeface="Arial"/>
              </a:rPr>
              <a:t>Sorting Equations and Identities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Body)"/>
              </a:rPr>
              <a:t>Projector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710e0e"/>
                </a:solidFill>
                <a:latin typeface="Arial"/>
              </a:rPr>
              <a:t>Always, Sometimes, or Never True?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372520" y="615168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A405F-CB70-480F-AA5E-300BF832F4FC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67280" y="1319040"/>
            <a:ext cx="37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2) =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13Intro.eps"/>
          <p:cNvPicPr/>
          <p:nvPr/>
        </p:nvPicPr>
        <p:blipFill>
          <a:blip r:embed="rId1"/>
          <a:srcRect l="0" t="0" r="0" b="11593"/>
          <a:stretch/>
        </p:blipFill>
        <p:spPr>
          <a:xfrm>
            <a:off x="996840" y="2373480"/>
            <a:ext cx="7375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Always, Sometimes, or Never True?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617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our groups, take turns to place a card in a column and justify your answer to your partn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think the equation is sometimes true, you will need to find value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which it is true and value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which it is not tru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think the equation is always true or never true, you will need to explain how we can be sure that this is the cas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member of the group should then either explain that reasoning again in his or her own words, or challenge the reasons you gav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entire group agrees, glue the card onto your poster. Write the reason for your choice of category next to the car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372520" y="615168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68BAC-7773-4A30-A11A-07E427269D00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2:19Z</dcterms:created>
  <dc:creator>Clare Farley</dc:creator>
  <dc:description/>
  <cp:keywords/>
  <dc:language>en-US</dc:language>
  <cp:lastModifiedBy>Pead Daniel</cp:lastModifiedBy>
  <cp:lastPrinted>2010-10-21T12:22:38Z</cp:lastPrinted>
  <dcterms:modified xsi:type="dcterms:W3CDTF">2011-02-02T16:29:51Z</dcterms:modified>
  <cp:revision>9</cp:revision>
  <dc:subject/>
  <dc:title>Equations and Identities</dc:title>
</cp:coreProperties>
</file>